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687-E78D-4766-BE3B-5B7B6631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032-2D51-4AD9-A3CA-3AF5287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3EC-F4FB-4EB0-95F5-7112672A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AFF-8B8B-4012-BE6C-F1A643C9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E37B-A171-4706-8406-BAB06446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897F-F206-48F6-9540-587BA331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AFA3-15AD-4EE7-BA06-E86390D0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AB6-3C0B-445D-B08A-23BDAA08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F6B3-D83E-4C50-91EB-76F17D7A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1C93-28B7-44C5-9CEA-80EB5633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9AF-454C-475C-BDCA-DBBEEFC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EC5-8E91-4DD8-A867-6E77240F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6FB0-679E-4510-8FF8-68B0249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176-D8BA-464E-9F99-82D3A05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3290-A794-4EDD-89BE-1EE290B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51CC-9CE0-4AB7-9D08-A3F82A47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1182-EFEE-4C59-8F30-A17FDE43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52A-1E70-4205-8DF9-95F7B05E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A4E-BA77-4968-B65A-F1832DD7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8FA-A528-4CB5-8E01-D5A7BFDB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81D-3050-4D0B-B636-16608723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5C1-ED9B-48D2-8168-28615A08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70A-E55B-4DF7-B0C8-F613FE4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2FD-D457-4CB1-9644-7B4AC6A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D775-9A05-4869-9E76-364896B0AF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8003-3D52-42DD-974A-25C38ECE2D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derground units who fought Germans in occupied territor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land, USSR, Jewish Partisans in E Europe,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Nazi Germa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 everyone liked the Naz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unists, Social Democr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ite Rose-college students-spoke out against Nazi genoci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 member was in the army-saw atrocities 1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ha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Nazi Germa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vocated sabotage-betrayed by a college janit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 members execu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b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ies shocked at conditions of camps, prison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soldiers did not understand/know what they had discover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o help the prisoner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o do with Nazi leaders captured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ac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perior, armed power of the Germans-if armies can’t stop Ger Army how can civilia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llective responsibility -1 Ger policeman shot, 120 Jews kill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solation of Jews, lack of weapons-few hiding pl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a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recy &amp; deception of deportations-forced to send postcards-arrived safely, I am we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Ghet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derground newspapers, radios-news about the war &amp; HOP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ts of sabotage-Jews used as forced labor-work slowly, poorly or just blow things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Ghet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rsaw Uprising-smuggled in weap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mors of gassing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ewish Fighting Organ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ing cellars, rooftops-held off Ger for 28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r set fire to ghet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314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Ghet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lna ghetto fighters 1942-43-United Partisan Organ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ed by 23 yr old Abba Kovn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ok idea from Warsaw ghetto upris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w escape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53384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Cam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litical organizations-raise spirits of prisoners, escape attemp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iritual 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chools-keep faith al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cumenting the Holocau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Cam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blinka-prisoners rebelled-stole weapons set fire to camp, mass escap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00 escaped, 20 surviv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bibor-similar to Treblinka-Ger leveled cam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uschwitz-prisoners blew up 4 cremator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4:18:36Z</dcterms:created>
  <dc:creator>Stephen Rauch</dc:creator>
  <dc:description/>
  <dc:language>en-US</dc:language>
  <cp:lastModifiedBy>Stephen Rauch</cp:lastModifiedBy>
  <dcterms:modified xsi:type="dcterms:W3CDTF">2008-03-28T19:51:38Z</dcterms:modified>
  <cp:revision>3</cp:revision>
  <dc:subject/>
  <dc:title>Resistance</dc:title>
</cp:coreProperties>
</file>